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53F-7810-45A0-BCE5-6EB8CB26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0F5-AEEF-4BCD-9BE7-C7EB3527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7F9-34FC-48FD-B8A1-BBD1B6D8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960-DE2D-4AA3-B05D-C069D793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E132-A66A-483F-93FB-EC028B05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ABE8-42C5-4491-AC9F-C11EE78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F52C-C4EE-4ADF-AA27-EFC888CD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521C-C078-4489-BEBE-3CAAFC8A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CB0D-CCA5-45EE-8ED6-7BF74A78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D436-97AC-44ED-A8CC-6A370F2F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D8A3-5378-4E69-B3DC-58FF5E83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400-8F1A-4825-91B1-79C8A7B8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0BBC-AC01-4306-8C99-77264F8C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2247-8D2D-4A02-A932-8C8519B5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ADED-26ED-4EA5-A4D1-6E9F4CF9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96D1-397B-4FB9-8991-4B13A8A1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9B85-300E-43D7-AEBC-6A11F359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3D18-6608-42A8-AED6-17A6526D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A7DA-F74D-42E4-82A7-479C6BBB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3FC9-EA9C-4C3B-A7C3-B99CB541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74E2-7069-4A14-8D51-373F54B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7BA7-66DC-4747-8397-CD41F4D2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F74-D946-4668-A179-027021D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BAB7-9E29-47A1-9DC6-4994E550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E92A-F569-4FA8-B1BF-969F94FE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FDC8-3B72-4A5D-9522-05548ED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B711D-893D-4E72-9D7A-77D01DB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58A1-509D-4128-BD93-05F544E6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4E4C-4DD2-4374-BD64-AA03F2A6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20684-1E01-411B-8382-FE45C8BC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7A0B-2827-4F1B-90C2-2BA50608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6211-BA09-4E18-BE59-90A23DE6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200C-E3F0-4F43-9FEB-0D7BF090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AE7-29B3-47BA-8BE1-12B46E66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C92D-F8E9-4836-91DE-2A7A78AD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0445-A49F-48CB-A7FF-50F4D3B0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A083-04E5-4C6F-A2E4-0F746F40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4BDF-E01D-41F7-B76B-1243AD89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915C-ABDC-42C6-97F0-8EEF97A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4841A-923F-49A5-A1C8-E056EB0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8438-70BD-4A91-B40E-007A8FF2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E7E0-7764-45D6-A6AF-FE28506C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3BC8-60ED-4EFF-92BF-22126FF7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C2F-297F-4C27-87A7-C465C835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BF0-8752-4C1D-BBFE-00E864BB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A10-15AA-47C4-9997-5D6E02D8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2B0-814B-4E60-B2A1-C3F01B4F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8EA-67B5-4E6F-9D23-6F7F2CF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E3FE-2D3E-49DC-A169-55784F2D89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18E1-587B-42B3-940B-F74D735F7DF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33A3-C024-4499-A34F-DF87B5F1A0B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B4D-8E87-4D9B-A258-B914725F43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8" descr="nekrasov_pic_02"/>
          <p:cNvPicPr/>
          <p:nvPr/>
        </p:nvPicPr>
        <p:blipFill>
          <a:blip r:embed="rId1"/>
          <a:stretch/>
        </p:blipFill>
        <p:spPr>
          <a:xfrm>
            <a:off x="928800" y="1500120"/>
            <a:ext cx="7858080" cy="30006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192880" cy="1890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71320" y="32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ыполнила Дуркина Анжелика Степан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Студенка 4 кур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Филологического  факультета КГП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2571840" y="56437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ыктывкар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? Основополагающий вопрос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а  что способен человек ради любви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5" descr="i?id=10950460&amp;tov=2"/>
          <p:cNvPicPr/>
          <p:nvPr/>
        </p:nvPicPr>
        <p:blipFill>
          <a:blip r:embed="rId1"/>
          <a:stretch/>
        </p:blipFill>
        <p:spPr>
          <a:xfrm>
            <a:off x="1357200" y="3286080"/>
            <a:ext cx="2286000" cy="3202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Картинка 2 из 1019"/>
          <p:cNvPicPr/>
          <p:nvPr/>
        </p:nvPicPr>
        <p:blipFill>
          <a:blip r:embed="rId2"/>
          <a:stretch/>
        </p:blipFill>
        <p:spPr>
          <a:xfrm>
            <a:off x="4929120" y="3143160"/>
            <a:ext cx="2071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? Проблемные вопросы 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чему Н.А. Некрасов обратился к теме о женах декабрист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то является главной героиней поэмы Н.А. Некрасова «Русские женщины»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чем повествуют части поэм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автор  относится к своим героя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ими чертами характера обладают княгини Трубецкая и Волконска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Н.А. Некрасов изобразил любовь женщины в своей поэме «Русские женщины»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едставление результатов исследов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сс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ворческое зада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зентац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блиц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то - репортаж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общ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Картинка 801 из 1039"/>
          <p:cNvPicPr/>
          <p:nvPr/>
        </p:nvPicPr>
        <p:blipFill>
          <a:blip r:embed="rId1"/>
          <a:stretch/>
        </p:blipFill>
        <p:spPr>
          <a:xfrm>
            <a:off x="4857840" y="1951200"/>
            <a:ext cx="321444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Мы будем изуч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эма как жанр произвед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торическая основа поэмы Н.А. Некрасова «Русские женщин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личие духа русск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енщин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поэме Н.А. Некрасова «Русские женщин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ые некрасовские представления о дух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м подвиге во имя любви русских женщ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равн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 сопоставл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нягинь Трубецкой и Волконск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Распределение по группа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85840" y="1928880"/>
          <a:ext cx="8329680" cy="4114800"/>
        </p:xfrm>
        <a:graphic>
          <a:graphicData uri="http://schemas.openxmlformats.org/drawingml/2006/table">
            <a:tbl>
              <a:tblPr/>
              <a:tblGrid>
                <a:gridCol w="1055520"/>
                <a:gridCol w="4338720"/>
                <a:gridCol w="939960"/>
                <a:gridCol w="1995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ед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эма как жанр произве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сторическая основа поэмы Н.А. Некрасова «Русские женщины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е духа русских по поэме Н.А. Некрасова «Русские женщины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ые некрасовские представления о духовом подвиге во имя любви русских женщ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 и сопоставления любви княгинь Трубецкой и Волконс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должительность проект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 недел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тапы проведения проек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бор и формулировка тем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иск информ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мостоятельная работа учащих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о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http://www.nekrasow.org.ru/lib/op/author/493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http://www.kostyor.ru/student/?n=244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http://lib.ru/LITRA/NEKRASOW/trubeckaya.txt3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http://lit.1september.ru/2003/37/5.ht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4:08:02Z</dcterms:created>
  <dc:creator>Анжелика</dc:creator>
  <dc:description/>
  <dc:language>en-US</dc:language>
  <cp:lastModifiedBy>Анжелика</cp:lastModifiedBy>
  <dcterms:modified xsi:type="dcterms:W3CDTF">2010-04-27T19:02:33Z</dcterms:modified>
  <cp:revision>17</cp:revision>
  <dc:subject/>
  <dc:title>Величие духа русской женщины (По поэме Н.А. Некрасова «Русские»)</dc:title>
</cp:coreProperties>
</file>